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94C-61F8-49DC-9895-8B1C7F06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7B6-C430-4AC9-BDA7-E672A2D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B02-2935-48E3-9CBB-CCFB2845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1EB-E2FA-4940-ADE2-1964F17C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EAB-C68D-4156-8303-1659701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25B-D9D7-475D-9709-E65D720E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E31-C1BF-4EF7-A1F1-936ADDE2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1C1-B455-4776-B2FF-61FE957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17C-82A0-46A8-9D2E-8663104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AD6-483B-459E-88A4-E4113229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28A-963B-4115-B772-0F36DD0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A1B-4234-43D5-A7DB-AC8F866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3B9-F6BF-455A-9864-F9498E56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straus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495288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371600"/>
            <a:ext cx="66294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lue Jea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va Flow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/7/10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Strauss"/>
          <p:cNvPicPr/>
          <p:nvPr/>
        </p:nvPicPr>
        <p:blipFill>
          <a:blip r:embed="rId1"/>
          <a:stretch/>
        </p:blipFill>
        <p:spPr>
          <a:xfrm>
            <a:off x="1295280" y="609480"/>
            <a:ext cx="5334120" cy="21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56386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10552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lue Jean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trau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289548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lue jeans people would wear nothing but sweatpants. Thanks to Levi Strauss, people can now create different kinds and colors of blue j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s: Blue J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 jeans were born (first made) in Ma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8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in two styles indigo blue and brown co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blue jeans were embraced by fashion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atured in Vogue magaz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Jeans (ecspecially Levis’ jeans) were such a demand in Eastern bloc countries they became underground standard of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Jeans are very popular and people wear them all around the worl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ke different types and colors of blue j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Strauss was 24 when he left New York hoping to cash gold in the gold rush in 185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pened a store with his brother in-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Strauss became a international phenomenon and an icon of American culture for creating “Blue Jean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7Z</dcterms:created>
  <dc:creator>install</dc:creator>
  <dc:description/>
  <dc:language>en-US</dc:language>
  <cp:lastModifiedBy>install</cp:lastModifiedBy>
  <dcterms:modified xsi:type="dcterms:W3CDTF">2010-05-12T17:37:53Z</dcterms:modified>
  <cp:revision>8</cp:revision>
  <dc:subject/>
  <dc:title>Slide 1</dc:title>
</cp:coreProperties>
</file>